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C189-FF94-4A60-A2B4-70930BC4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89EB-F08C-4699-A83E-B5D2616E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0E0-1B93-4455-B158-7D94A1C8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9B86-6849-4CE1-928C-B01CBAF1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3E73-7B7A-4B40-BBD0-BC961E78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DBE4-F2F1-4EB9-B14A-3E8C1C83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6549-6CD6-4D46-89C4-45684212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A38F-848C-497F-831D-9921147A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1AFE-DBEF-4A41-8B53-18C7D08C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0231-B8C2-4A03-A985-EA959FC9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8356-F6B6-489C-A3D3-1BD0FF98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2A92-9B41-4C76-B0F4-F57FB3FD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948d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948d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48d4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48d4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48d4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48d4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48d4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6742-E20B-48C8-839B-C4ABD6C527D6}" type="slidenum">
              <a:rPr b="0" lang="en-US" sz="1400" spc="-1" strike="noStrike">
                <a:solidFill>
                  <a:srgbClr val="948d4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878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360" y="2491920"/>
            <a:ext cx="67816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challenges for curriculum reform: pondering implications of patterns in the NZCER National Survey of Secondary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10920" y="5105520"/>
            <a:ext cx="799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Verdana"/>
              </a:rPr>
              <a:t>ROSEMARY HIPKIN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Verdana"/>
              </a:rPr>
              <a:t>Discussion at Ormiston College, November, 2010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6400800" cy="5943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8200" y="6093000"/>
            <a:ext cx="81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se of learning-to-learn approaches is not yet common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26920" y="49960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48d4a"/>
                </a:solidFill>
                <a:latin typeface="Arial Mäori"/>
                <a:ea typeface="Times New Roman"/>
              </a:rPr>
              <a:t>Teacher correlations (r) between classroom learning factors</a:t>
            </a:r>
            <a:r>
              <a:rPr b="1" lang="en-NZ" sz="1000" spc="-1" strike="noStrike">
                <a:solidFill>
                  <a:srgbClr val="948d4a"/>
                </a:solidFill>
                <a:latin typeface="Arial Mäori"/>
                <a:ea typeface="Times New Roman"/>
              </a:rPr>
              <a:t> </a:t>
            </a:r>
            <a:endParaRPr b="0" lang="en-US" sz="1000" spc="-1" strike="noStrike">
              <a:solidFill>
                <a:srgbClr val="948d4a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332000" y="404640"/>
          <a:ext cx="6840360" cy="3732480"/>
        </p:xfrm>
        <a:graphic>
          <a:graphicData uri="http://schemas.openxmlformats.org/drawingml/2006/table">
            <a:tbl>
              <a:tblPr/>
              <a:tblGrid>
                <a:gridCol w="2279520"/>
                <a:gridCol w="2279520"/>
                <a:gridCol w="2281320"/>
              </a:tblGrid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948d4a"/>
                          </a:solidFill>
                          <a:latin typeface="Arial Mäori"/>
                          <a:ea typeface="Times New Roman"/>
                        </a:rPr>
                        <a:t>Key competencies</a:t>
                      </a:r>
                      <a:endParaRPr b="0" lang="en-US" sz="24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948d4a"/>
                          </a:solidFill>
                          <a:latin typeface="Arial Mäori"/>
                          <a:ea typeface="Times New Roman"/>
                        </a:rPr>
                        <a:t>Student experiences</a:t>
                      </a:r>
                      <a:endParaRPr b="0" lang="en-US" sz="24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948d4a"/>
                          </a:solidFill>
                          <a:latin typeface="Arial Mäori"/>
                          <a:ea typeface="Times New Roman"/>
                        </a:rPr>
                        <a:t>Learning to learn</a:t>
                      </a:r>
                      <a:endParaRPr b="0" lang="en-US" sz="24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948d4a"/>
                          </a:solidFill>
                          <a:latin typeface="Arial Mäori"/>
                          <a:ea typeface="Times New Roman"/>
                        </a:rPr>
                        <a:t>.45</a:t>
                      </a:r>
                      <a:endParaRPr b="0" lang="en-US" sz="24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948d4a"/>
                          </a:solidFill>
                          <a:latin typeface="Arial Mäori"/>
                          <a:ea typeface="Times New Roman"/>
                        </a:rPr>
                        <a:t>.66</a:t>
                      </a:r>
                      <a:endParaRPr b="0" lang="en-US" sz="24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948d4a"/>
                          </a:solidFill>
                          <a:latin typeface="Arial Mäori"/>
                          <a:ea typeface="Times New Roman"/>
                        </a:rPr>
                        <a:t>Key competencies</a:t>
                      </a:r>
                      <a:endParaRPr b="0" lang="en-US" sz="24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948d4a"/>
                          </a:solidFill>
                          <a:latin typeface="Arial Mäori"/>
                          <a:ea typeface="Times New Roman"/>
                        </a:rPr>
                        <a:t>.51</a:t>
                      </a:r>
                      <a:endParaRPr b="0" lang="en-US" sz="24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0" y="418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136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Engaging and motivating student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What is school really for?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1049400"/>
            <a:ext cx="8713800" cy="4719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60404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8d4a"/>
                </a:solidFill>
                <a:latin typeface="Arial"/>
              </a:rPr>
              <a:t>An interesting tension between NZC and NCEA here.. 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685800" y="189000"/>
          <a:ext cx="7772400" cy="5099040"/>
        </p:xfrm>
        <a:graphic>
          <a:graphicData uri="http://schemas.openxmlformats.org/drawingml/2006/table">
            <a:tbl>
              <a:tblPr/>
              <a:tblGrid>
                <a:gridCol w="3936960"/>
                <a:gridCol w="1917720"/>
                <a:gridCol w="191772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NCEA motivates underachieving students to do better  (agree/strongly agree)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Principals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Teachers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2006 responses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42%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2009 responses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67%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35%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NCEA motivates high achieving students to do their best  (agree/strongly agree)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2006 responses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39%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21%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2009 responses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65%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41%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5800" y="609480"/>
          <a:ext cx="7773120" cy="4763520"/>
        </p:xfrm>
        <a:graphic>
          <a:graphicData uri="http://schemas.openxmlformats.org/drawingml/2006/table">
            <a:tbl>
              <a:tblPr/>
              <a:tblGrid>
                <a:gridCol w="5103720"/>
                <a:gridCol w="2669400"/>
              </a:tblGrid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100" spc="-1" strike="noStrike">
                          <a:solidFill>
                            <a:srgbClr val="4ea9a4"/>
                          </a:solidFill>
                          <a:latin typeface="Arial Mäori"/>
                          <a:ea typeface="Times New Roman"/>
                        </a:rPr>
                        <a:t>Students co-create their NCEA plan</a:t>
                      </a:r>
                      <a:endParaRPr b="0" lang="en-US" sz="21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100" spc="-1" strike="noStrike">
                          <a:solidFill>
                            <a:srgbClr val="4ea9a4"/>
                          </a:solidFill>
                          <a:latin typeface="Arial Mäori"/>
                          <a:ea typeface="Times New Roman"/>
                        </a:rPr>
                        <a:t>Teacher responses</a:t>
                      </a:r>
                      <a:br>
                        <a:rPr sz="2100"/>
                      </a:br>
                      <a:r>
                        <a:rPr b="1" lang="en-NZ" sz="2100" spc="-1" strike="noStrike">
                          <a:solidFill>
                            <a:srgbClr val="4ea9a4"/>
                          </a:solidFill>
                          <a:latin typeface="Arial Mäori"/>
                          <a:ea typeface="Times New Roman"/>
                        </a:rPr>
                        <a:t>(n=780)</a:t>
                      </a:r>
                      <a:br>
                        <a:rPr sz="2100"/>
                      </a:br>
                      <a:r>
                        <a:rPr b="1" lang="en-NZ" sz="2100" spc="-1" strike="noStrike">
                          <a:solidFill>
                            <a:srgbClr val="4ea9a4"/>
                          </a:solidFill>
                          <a:latin typeface="Arial Mäori"/>
                          <a:ea typeface="Times New Roman"/>
                        </a:rPr>
                        <a:t>%</a:t>
                      </a:r>
                      <a:endParaRPr b="0" lang="en-US" sz="21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100" spc="-1" strike="noStrike">
                          <a:solidFill>
                            <a:srgbClr val="4ea9a4"/>
                          </a:solidFill>
                          <a:latin typeface="Arial Mäori"/>
                          <a:ea typeface="Times New Roman"/>
                        </a:rPr>
                        <a:t>Most of the time</a:t>
                      </a:r>
                      <a:endParaRPr b="0" lang="en-US" sz="21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dec" pos="56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100" spc="-1" strike="noStrike">
                          <a:solidFill>
                            <a:srgbClr val="4ea9a4"/>
                          </a:solidFill>
                          <a:latin typeface="Arial Mäori"/>
                          <a:ea typeface="Times New Roman"/>
                        </a:rPr>
                        <a:t>3</a:t>
                      </a:r>
                      <a:endParaRPr b="0" lang="en-US" sz="21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100" spc="-1" strike="noStrike">
                          <a:solidFill>
                            <a:srgbClr val="4ea9a4"/>
                          </a:solidFill>
                          <a:latin typeface="Arial Mäori"/>
                          <a:ea typeface="Times New Roman"/>
                        </a:rPr>
                        <a:t>Quite often</a:t>
                      </a:r>
                      <a:endParaRPr b="0" lang="en-US" sz="21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dec" pos="56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100" spc="-1" strike="noStrike">
                          <a:solidFill>
                            <a:srgbClr val="4ea9a4"/>
                          </a:solidFill>
                          <a:latin typeface="Arial Mäori"/>
                          <a:ea typeface="Times New Roman"/>
                        </a:rPr>
                        <a:t>7</a:t>
                      </a:r>
                      <a:endParaRPr b="0" lang="en-US" sz="21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100" spc="-1" strike="noStrike">
                          <a:solidFill>
                            <a:srgbClr val="4ea9a4"/>
                          </a:solidFill>
                          <a:latin typeface="Arial Mäori"/>
                          <a:ea typeface="Times New Roman"/>
                        </a:rPr>
                        <a:t>Sometimes</a:t>
                      </a:r>
                      <a:endParaRPr b="0" lang="en-US" sz="21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dec" pos="56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100" spc="-1" strike="noStrike">
                          <a:solidFill>
                            <a:srgbClr val="4ea9a4"/>
                          </a:solidFill>
                          <a:latin typeface="Arial Mäori"/>
                          <a:ea typeface="Times New Roman"/>
                        </a:rPr>
                        <a:t>20</a:t>
                      </a:r>
                      <a:endParaRPr b="0" lang="en-US" sz="21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100" spc="-1" strike="noStrike">
                          <a:solidFill>
                            <a:srgbClr val="4ea9a4"/>
                          </a:solidFill>
                          <a:latin typeface="Arial Mäori"/>
                          <a:ea typeface="Times New Roman"/>
                        </a:rPr>
                        <a:t>Never/almost never</a:t>
                      </a:r>
                      <a:endParaRPr b="0" lang="en-US" sz="21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dec" pos="56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100" spc="-1" strike="noStrike" u="sng">
                          <a:solidFill>
                            <a:srgbClr val="4ea9a4"/>
                          </a:solidFill>
                          <a:uFillTx/>
                          <a:latin typeface="Arial Mäori"/>
                          <a:ea typeface="Times New Roman"/>
                        </a:rPr>
                        <a:t>64</a:t>
                      </a:r>
                      <a:endParaRPr b="0" lang="en-US" sz="21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100" spc="-1" strike="noStrike">
                          <a:solidFill>
                            <a:srgbClr val="4ea9a4"/>
                          </a:solidFill>
                          <a:latin typeface="Arial Mäori"/>
                          <a:ea typeface="Times New Roman"/>
                        </a:rPr>
                        <a:t>No response</a:t>
                      </a:r>
                      <a:endParaRPr b="0" lang="en-US" sz="21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dec" pos="56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100" spc="-1" strike="noStrike">
                          <a:solidFill>
                            <a:srgbClr val="4ea9a4"/>
                          </a:solidFill>
                          <a:latin typeface="Arial Mäori"/>
                          <a:ea typeface="Times New Roman"/>
                        </a:rPr>
                        <a:t>6</a:t>
                      </a:r>
                      <a:endParaRPr b="0" lang="en-US" sz="21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10920" y="764640"/>
            <a:ext cx="8064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Is there a way to take more proactive control of “motivation” agenda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How we talk about what motivation i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What constitutes learning “success”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Actions and support we expect to be motivating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How NCEA relates to NZC and its vision for “confident, connected, lifelong learners”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340000" y="907920"/>
            <a:ext cx="0" cy="35276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4508640"/>
            <a:ext cx="539892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27280" y="1268280"/>
            <a:ext cx="4753080" cy="2881440"/>
          </a:xfrm>
          <a:prstGeom prst="line">
            <a:avLst/>
          </a:prstGeom>
          <a:ln w="38160">
            <a:solidFill>
              <a:srgbClr val="4ea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8360" y="4743360"/>
            <a:ext cx="59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8d4a"/>
                </a:solidFill>
                <a:latin typeface="Arial"/>
              </a:rPr>
              <a:t>Excellence; rigour; competition, </a:t>
            </a:r>
            <a:r>
              <a:rPr b="1" lang="en-US" sz="2400" spc="-1" strike="noStrike">
                <a:solidFill>
                  <a:srgbClr val="4ea9a4"/>
                </a:solidFill>
                <a:latin typeface="Arial"/>
              </a:rPr>
              <a:t>motivation </a:t>
            </a:r>
            <a:r>
              <a:rPr b="1" lang="en-US" sz="2400" spc="-1" strike="noStrike">
                <a:solidFill>
                  <a:srgbClr val="948d4a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2360" y="1628640"/>
            <a:ext cx="204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8d4a"/>
                </a:solidFill>
                <a:latin typeface="Arial"/>
              </a:rPr>
              <a:t>Opportunity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8d4a"/>
                </a:solidFill>
                <a:latin typeface="Arial"/>
              </a:rPr>
              <a:t>Accessibility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8d4a"/>
                </a:solidFill>
                <a:latin typeface="Arial"/>
              </a:rPr>
              <a:t>Diversity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a9a4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05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oes this have to be an either/or? Could we rethink these as both/and ideas? 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30000" y="4095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48d4a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62360" y="49536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48d4a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815600" y="40766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48d4a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362320" y="2133720"/>
            <a:ext cx="318132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948d4a"/>
                  </a:solidFill>
                  <a:miter/>
                </a:ln>
                <a:solidFill>
                  <a:srgbClr val="969696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assing assessments, gaining credits</a:t>
            </a:r>
            <a:endParaRPr b="0" lang="en-US" sz="1200" spc="1" strike="noStrike">
              <a:ln w="12600">
                <a:solidFill>
                  <a:srgbClr val="948d4a"/>
                </a:solidFill>
                <a:miter/>
              </a:ln>
              <a:solidFill>
                <a:srgbClr val="969696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38280" y="1752480"/>
            <a:ext cx="30196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ntry to post-school course of choice</a:t>
            </a:r>
            <a:endParaRPr b="0" lang="en-US" sz="1200" spc="1" strike="noStrike">
              <a:ln w="1260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1" strike="noStrike">
              <a:ln w="1260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1476360" y="1628280"/>
            <a:ext cx="4572000" cy="2616480"/>
          </a:xfrm>
          <a:custGeom>
            <a:avLst/>
            <a:gdLst>
              <a:gd name="textAreaLeft" fmla="*/ 1005480 w 4572000"/>
              <a:gd name="textAreaRight" fmla="*/ 3566520 w 4572000"/>
              <a:gd name="textAreaTop" fmla="*/ 575280 h 2616480"/>
              <a:gd name="textAreaBottom" fmla="*/ 2041200 h 261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66760" y="2536920"/>
            <a:ext cx="3657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earning needs of students</a:t>
            </a:r>
            <a:endParaRPr b="0" lang="en-US" sz="10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1495440" y="4264200"/>
            <a:ext cx="4572000" cy="34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099160" y="4137120"/>
            <a:ext cx="1108800" cy="1038960"/>
            <a:chOff x="2099160" y="4137120"/>
            <a:chExt cx="1108800" cy="1038960"/>
          </a:xfrm>
        </p:grpSpPr>
        <p:grpSp>
          <p:nvGrpSpPr>
            <p:cNvPr id="88" name=""/>
            <p:cNvGrpSpPr/>
            <p:nvPr/>
          </p:nvGrpSpPr>
          <p:grpSpPr>
            <a:xfrm>
              <a:off x="2099160" y="4640400"/>
              <a:ext cx="553680" cy="522360"/>
              <a:chOff x="2099160" y="4640400"/>
              <a:chExt cx="553680" cy="522360"/>
            </a:xfrm>
          </p:grpSpPr>
          <p:sp>
            <p:nvSpPr>
              <p:cNvPr id="89" name=""/>
              <p:cNvSpPr/>
              <p:nvPr/>
            </p:nvSpPr>
            <p:spPr>
              <a:xfrm rot="18571200">
                <a:off x="2122200" y="4663800"/>
                <a:ext cx="114120" cy="1141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948d4a"/>
                  </a:solidFill>
                  <a:latin typeface="Arial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2114640" y="4726800"/>
                <a:ext cx="538200" cy="435960"/>
                <a:chOff x="2114640" y="4726800"/>
                <a:chExt cx="538200" cy="435960"/>
              </a:xfrm>
            </p:grpSpPr>
            <p:sp>
              <p:nvSpPr>
                <p:cNvPr id="91" name=""/>
                <p:cNvSpPr/>
                <p:nvPr/>
              </p:nvSpPr>
              <p:spPr>
                <a:xfrm rot="18571200">
                  <a:off x="2252520" y="4752000"/>
                  <a:ext cx="152280" cy="429840"/>
                </a:xfrm>
                <a:custGeom>
                  <a:avLst/>
                  <a:gdLst/>
                  <a:ahLst/>
                  <a:rect l="l" t="t" r="r" b="b"/>
                  <a:pathLst>
                    <a:path w="240" h="677">
                      <a:moveTo>
                        <a:pt x="240" y="0"/>
                      </a:moveTo>
                      <a:cubicBezTo>
                        <a:pt x="237" y="53"/>
                        <a:pt x="233" y="107"/>
                        <a:pt x="230" y="160"/>
                      </a:cubicBezTo>
                      <a:cubicBezTo>
                        <a:pt x="226" y="237"/>
                        <a:pt x="229" y="314"/>
                        <a:pt x="220" y="390"/>
                      </a:cubicBezTo>
                      <a:cubicBezTo>
                        <a:pt x="219" y="402"/>
                        <a:pt x="205" y="409"/>
                        <a:pt x="200" y="420"/>
                      </a:cubicBezTo>
                      <a:cubicBezTo>
                        <a:pt x="177" y="471"/>
                        <a:pt x="152" y="520"/>
                        <a:pt x="130" y="570"/>
                      </a:cubicBezTo>
                      <a:cubicBezTo>
                        <a:pt x="121" y="589"/>
                        <a:pt x="117" y="610"/>
                        <a:pt x="110" y="630"/>
                      </a:cubicBezTo>
                      <a:cubicBezTo>
                        <a:pt x="107" y="640"/>
                        <a:pt x="110" y="657"/>
                        <a:pt x="100" y="660"/>
                      </a:cubicBezTo>
                      <a:cubicBezTo>
                        <a:pt x="48" y="677"/>
                        <a:pt x="81" y="670"/>
                        <a:pt x="0" y="670"/>
                      </a:cubicBezTo>
                    </a:path>
                  </a:pathLst>
                </a:custGeom>
                <a:noFill/>
                <a:ln w="572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948d4a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rot="19753200">
                  <a:off x="2399400" y="4835160"/>
                  <a:ext cx="215640" cy="206280"/>
                </a:xfrm>
                <a:custGeom>
                  <a:avLst/>
                  <a:gdLst/>
                  <a:ahLst/>
                  <a:rect l="l" t="t" r="r" b="b"/>
                  <a:pathLst>
                    <a:path w="340" h="325">
                      <a:moveTo>
                        <a:pt x="0" y="0"/>
                      </a:moveTo>
                      <a:cubicBezTo>
                        <a:pt x="31" y="46"/>
                        <a:pt x="77" y="67"/>
                        <a:pt x="110" y="110"/>
                      </a:cubicBezTo>
                      <a:cubicBezTo>
                        <a:pt x="146" y="157"/>
                        <a:pt x="183" y="217"/>
                        <a:pt x="210" y="270"/>
                      </a:cubicBezTo>
                      <a:cubicBezTo>
                        <a:pt x="222" y="294"/>
                        <a:pt x="213" y="314"/>
                        <a:pt x="250" y="320"/>
                      </a:cubicBezTo>
                      <a:cubicBezTo>
                        <a:pt x="280" y="325"/>
                        <a:pt x="310" y="320"/>
                        <a:pt x="340" y="320"/>
                      </a:cubicBezTo>
                    </a:path>
                  </a:pathLst>
                </a:custGeom>
                <a:noFill/>
                <a:ln w="572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948d4a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rot="18571200">
                  <a:off x="2221560" y="4766040"/>
                  <a:ext cx="183600" cy="171360"/>
                </a:xfrm>
                <a:custGeom>
                  <a:avLst/>
                  <a:gdLst/>
                  <a:ahLst/>
                  <a:rect l="l" t="t" r="r" b="b"/>
                  <a:pathLst>
                    <a:path w="289" h="270">
                      <a:moveTo>
                        <a:pt x="0" y="240"/>
                      </a:moveTo>
                      <a:cubicBezTo>
                        <a:pt x="8" y="215"/>
                        <a:pt x="15" y="145"/>
                        <a:pt x="30" y="130"/>
                      </a:cubicBezTo>
                      <a:cubicBezTo>
                        <a:pt x="57" y="103"/>
                        <a:pt x="93" y="87"/>
                        <a:pt x="120" y="60"/>
                      </a:cubicBezTo>
                      <a:cubicBezTo>
                        <a:pt x="122" y="53"/>
                        <a:pt x="137" y="0"/>
                        <a:pt x="150" y="0"/>
                      </a:cubicBezTo>
                      <a:cubicBezTo>
                        <a:pt x="164" y="0"/>
                        <a:pt x="170" y="20"/>
                        <a:pt x="180" y="30"/>
                      </a:cubicBezTo>
                      <a:cubicBezTo>
                        <a:pt x="190" y="71"/>
                        <a:pt x="202" y="93"/>
                        <a:pt x="220" y="130"/>
                      </a:cubicBezTo>
                      <a:cubicBezTo>
                        <a:pt x="242" y="174"/>
                        <a:pt x="215" y="151"/>
                        <a:pt x="250" y="200"/>
                      </a:cubicBezTo>
                      <a:cubicBezTo>
                        <a:pt x="289" y="255"/>
                        <a:pt x="280" y="201"/>
                        <a:pt x="280" y="270"/>
                      </a:cubicBezTo>
                    </a:path>
                  </a:pathLst>
                </a:custGeom>
                <a:noFill/>
                <a:ln w="38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948d4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" name=""/>
            <p:cNvGrpSpPr/>
            <p:nvPr/>
          </p:nvGrpSpPr>
          <p:grpSpPr>
            <a:xfrm>
              <a:off x="2408040" y="4594320"/>
              <a:ext cx="348120" cy="581760"/>
              <a:chOff x="2408040" y="4594320"/>
              <a:chExt cx="348120" cy="581760"/>
            </a:xfrm>
          </p:grpSpPr>
          <p:sp>
            <p:nvSpPr>
              <p:cNvPr id="95" name=""/>
              <p:cNvSpPr/>
              <p:nvPr/>
            </p:nvSpPr>
            <p:spPr>
              <a:xfrm>
                <a:off x="2522160" y="4594320"/>
                <a:ext cx="114120" cy="114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948d4a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2408040" y="4708440"/>
                <a:ext cx="348120" cy="467640"/>
                <a:chOff x="2408040" y="4708440"/>
                <a:chExt cx="348120" cy="4676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408040" y="4708440"/>
                  <a:ext cx="152280" cy="429840"/>
                </a:xfrm>
                <a:custGeom>
                  <a:avLst/>
                  <a:gdLst/>
                  <a:ahLst/>
                  <a:rect l="l" t="t" r="r" b="b"/>
                  <a:pathLst>
                    <a:path w="240" h="677">
                      <a:moveTo>
                        <a:pt x="240" y="0"/>
                      </a:moveTo>
                      <a:cubicBezTo>
                        <a:pt x="237" y="53"/>
                        <a:pt x="233" y="107"/>
                        <a:pt x="230" y="160"/>
                      </a:cubicBezTo>
                      <a:cubicBezTo>
                        <a:pt x="226" y="237"/>
                        <a:pt x="229" y="314"/>
                        <a:pt x="220" y="390"/>
                      </a:cubicBezTo>
                      <a:cubicBezTo>
                        <a:pt x="219" y="402"/>
                        <a:pt x="205" y="409"/>
                        <a:pt x="200" y="420"/>
                      </a:cubicBezTo>
                      <a:cubicBezTo>
                        <a:pt x="177" y="471"/>
                        <a:pt x="152" y="520"/>
                        <a:pt x="130" y="570"/>
                      </a:cubicBezTo>
                      <a:cubicBezTo>
                        <a:pt x="121" y="589"/>
                        <a:pt x="117" y="610"/>
                        <a:pt x="110" y="630"/>
                      </a:cubicBezTo>
                      <a:cubicBezTo>
                        <a:pt x="107" y="640"/>
                        <a:pt x="110" y="657"/>
                        <a:pt x="100" y="660"/>
                      </a:cubicBezTo>
                      <a:cubicBezTo>
                        <a:pt x="48" y="677"/>
                        <a:pt x="81" y="670"/>
                        <a:pt x="0" y="670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948d4a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rot="1182000">
                  <a:off x="2511720" y="4939560"/>
                  <a:ext cx="215640" cy="206280"/>
                </a:xfrm>
                <a:custGeom>
                  <a:avLst/>
                  <a:gdLst/>
                  <a:ahLst/>
                  <a:rect l="l" t="t" r="r" b="b"/>
                  <a:pathLst>
                    <a:path w="340" h="325">
                      <a:moveTo>
                        <a:pt x="0" y="0"/>
                      </a:moveTo>
                      <a:cubicBezTo>
                        <a:pt x="31" y="46"/>
                        <a:pt x="77" y="67"/>
                        <a:pt x="110" y="110"/>
                      </a:cubicBezTo>
                      <a:cubicBezTo>
                        <a:pt x="146" y="157"/>
                        <a:pt x="183" y="217"/>
                        <a:pt x="210" y="270"/>
                      </a:cubicBezTo>
                      <a:cubicBezTo>
                        <a:pt x="222" y="294"/>
                        <a:pt x="213" y="314"/>
                        <a:pt x="250" y="320"/>
                      </a:cubicBezTo>
                      <a:cubicBezTo>
                        <a:pt x="280" y="325"/>
                        <a:pt x="310" y="320"/>
                        <a:pt x="340" y="320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948d4a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471400" y="4752720"/>
                  <a:ext cx="183600" cy="171360"/>
                </a:xfrm>
                <a:custGeom>
                  <a:avLst/>
                  <a:gdLst/>
                  <a:ahLst/>
                  <a:rect l="l" t="t" r="r" b="b"/>
                  <a:pathLst>
                    <a:path w="289" h="270">
                      <a:moveTo>
                        <a:pt x="0" y="240"/>
                      </a:moveTo>
                      <a:cubicBezTo>
                        <a:pt x="8" y="215"/>
                        <a:pt x="15" y="145"/>
                        <a:pt x="30" y="130"/>
                      </a:cubicBezTo>
                      <a:cubicBezTo>
                        <a:pt x="57" y="103"/>
                        <a:pt x="93" y="87"/>
                        <a:pt x="120" y="60"/>
                      </a:cubicBezTo>
                      <a:cubicBezTo>
                        <a:pt x="122" y="53"/>
                        <a:pt x="137" y="0"/>
                        <a:pt x="150" y="0"/>
                      </a:cubicBezTo>
                      <a:cubicBezTo>
                        <a:pt x="164" y="0"/>
                        <a:pt x="170" y="20"/>
                        <a:pt x="180" y="30"/>
                      </a:cubicBezTo>
                      <a:cubicBezTo>
                        <a:pt x="190" y="71"/>
                        <a:pt x="202" y="93"/>
                        <a:pt x="220" y="130"/>
                      </a:cubicBezTo>
                      <a:cubicBezTo>
                        <a:pt x="242" y="174"/>
                        <a:pt x="215" y="151"/>
                        <a:pt x="250" y="200"/>
                      </a:cubicBezTo>
                      <a:cubicBezTo>
                        <a:pt x="289" y="255"/>
                        <a:pt x="280" y="201"/>
                        <a:pt x="280" y="27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948d4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"/>
            <p:cNvSpPr/>
            <p:nvPr/>
          </p:nvSpPr>
          <p:spPr>
            <a:xfrm flipV="1">
              <a:off x="2636640" y="4137120"/>
              <a:ext cx="57132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48d4a"/>
                </a:solidFill>
                <a:latin typeface="Arial"/>
              </a:endParaRPr>
            </a:p>
          </p:txBody>
        </p:sp>
      </p:grpSp>
      <p:sp>
        <p:nvSpPr>
          <p:cNvPr id="101" name=""/>
          <p:cNvSpPr txBox="1"/>
          <p:nvPr/>
        </p:nvSpPr>
        <p:spPr>
          <a:xfrm>
            <a:off x="1838160" y="3222720"/>
            <a:ext cx="4229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earning for the future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2752560" y="4937040"/>
            <a:ext cx="343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8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48d4a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948d4a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467240" y="1533600"/>
            <a:ext cx="456840" cy="342720"/>
            <a:chOff x="4467240" y="1533600"/>
            <a:chExt cx="456840" cy="342720"/>
          </a:xfrm>
        </p:grpSpPr>
        <p:grpSp>
          <p:nvGrpSpPr>
            <p:cNvPr id="104" name=""/>
            <p:cNvGrpSpPr/>
            <p:nvPr/>
          </p:nvGrpSpPr>
          <p:grpSpPr>
            <a:xfrm>
              <a:off x="4467240" y="1533600"/>
              <a:ext cx="126000" cy="238680"/>
              <a:chOff x="4467240" y="1533600"/>
              <a:chExt cx="126000" cy="238680"/>
            </a:xfrm>
          </p:grpSpPr>
          <p:sp>
            <p:nvSpPr>
              <p:cNvPr id="105" name=""/>
              <p:cNvSpPr/>
              <p:nvPr/>
            </p:nvSpPr>
            <p:spPr>
              <a:xfrm>
                <a:off x="4507920" y="1533600"/>
                <a:ext cx="40680" cy="47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948d4a"/>
                  </a:solidFill>
                  <a:latin typeface="Arial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4467240" y="1580760"/>
                <a:ext cx="126000" cy="191520"/>
                <a:chOff x="4467240" y="1580760"/>
                <a:chExt cx="126000" cy="1915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67240" y="1580760"/>
                  <a:ext cx="54360" cy="178200"/>
                </a:xfrm>
                <a:custGeom>
                  <a:avLst/>
                  <a:gdLst/>
                  <a:ahLst/>
                  <a:rect l="l" t="t" r="r" b="b"/>
                  <a:pathLst>
                    <a:path w="240" h="677">
                      <a:moveTo>
                        <a:pt x="240" y="0"/>
                      </a:moveTo>
                      <a:cubicBezTo>
                        <a:pt x="237" y="53"/>
                        <a:pt x="233" y="107"/>
                        <a:pt x="230" y="160"/>
                      </a:cubicBezTo>
                      <a:cubicBezTo>
                        <a:pt x="226" y="237"/>
                        <a:pt x="229" y="314"/>
                        <a:pt x="220" y="390"/>
                      </a:cubicBezTo>
                      <a:cubicBezTo>
                        <a:pt x="219" y="402"/>
                        <a:pt x="205" y="409"/>
                        <a:pt x="200" y="420"/>
                      </a:cubicBezTo>
                      <a:cubicBezTo>
                        <a:pt x="177" y="471"/>
                        <a:pt x="152" y="520"/>
                        <a:pt x="130" y="570"/>
                      </a:cubicBezTo>
                      <a:cubicBezTo>
                        <a:pt x="121" y="589"/>
                        <a:pt x="117" y="610"/>
                        <a:pt x="110" y="630"/>
                      </a:cubicBezTo>
                      <a:cubicBezTo>
                        <a:pt x="107" y="640"/>
                        <a:pt x="110" y="657"/>
                        <a:pt x="100" y="660"/>
                      </a:cubicBezTo>
                      <a:cubicBezTo>
                        <a:pt x="48" y="677"/>
                        <a:pt x="81" y="670"/>
                        <a:pt x="0" y="67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948d4a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rot="1182000">
                  <a:off x="4503960" y="1676520"/>
                  <a:ext cx="77040" cy="85320"/>
                </a:xfrm>
                <a:custGeom>
                  <a:avLst/>
                  <a:gdLst/>
                  <a:ahLst/>
                  <a:rect l="l" t="t" r="r" b="b"/>
                  <a:pathLst>
                    <a:path w="340" h="325">
                      <a:moveTo>
                        <a:pt x="0" y="0"/>
                      </a:moveTo>
                      <a:cubicBezTo>
                        <a:pt x="31" y="46"/>
                        <a:pt x="77" y="67"/>
                        <a:pt x="110" y="110"/>
                      </a:cubicBezTo>
                      <a:cubicBezTo>
                        <a:pt x="146" y="157"/>
                        <a:pt x="183" y="217"/>
                        <a:pt x="210" y="270"/>
                      </a:cubicBezTo>
                      <a:cubicBezTo>
                        <a:pt x="222" y="294"/>
                        <a:pt x="213" y="314"/>
                        <a:pt x="250" y="320"/>
                      </a:cubicBezTo>
                      <a:cubicBezTo>
                        <a:pt x="280" y="325"/>
                        <a:pt x="310" y="320"/>
                        <a:pt x="340" y="32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948d4a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489920" y="1599120"/>
                  <a:ext cx="65520" cy="70920"/>
                </a:xfrm>
                <a:custGeom>
                  <a:avLst/>
                  <a:gdLst/>
                  <a:ahLst/>
                  <a:rect l="l" t="t" r="r" b="b"/>
                  <a:pathLst>
                    <a:path w="289" h="270">
                      <a:moveTo>
                        <a:pt x="0" y="240"/>
                      </a:moveTo>
                      <a:cubicBezTo>
                        <a:pt x="8" y="215"/>
                        <a:pt x="15" y="145"/>
                        <a:pt x="30" y="130"/>
                      </a:cubicBezTo>
                      <a:cubicBezTo>
                        <a:pt x="57" y="103"/>
                        <a:pt x="93" y="87"/>
                        <a:pt x="120" y="60"/>
                      </a:cubicBezTo>
                      <a:cubicBezTo>
                        <a:pt x="122" y="53"/>
                        <a:pt x="137" y="0"/>
                        <a:pt x="150" y="0"/>
                      </a:cubicBezTo>
                      <a:cubicBezTo>
                        <a:pt x="164" y="0"/>
                        <a:pt x="170" y="20"/>
                        <a:pt x="180" y="30"/>
                      </a:cubicBezTo>
                      <a:cubicBezTo>
                        <a:pt x="190" y="71"/>
                        <a:pt x="202" y="93"/>
                        <a:pt x="220" y="130"/>
                      </a:cubicBezTo>
                      <a:cubicBezTo>
                        <a:pt x="242" y="174"/>
                        <a:pt x="215" y="151"/>
                        <a:pt x="250" y="200"/>
                      </a:cubicBezTo>
                      <a:cubicBezTo>
                        <a:pt x="289" y="255"/>
                        <a:pt x="280" y="201"/>
                        <a:pt x="280" y="27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948d4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4581360" y="153360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48d4a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948d4a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50920" y="404640"/>
            <a:ext cx="8713800" cy="459720"/>
          </a:xfrm>
          <a:prstGeom prst="rect">
            <a:avLst/>
          </a:prstGeom>
          <a:solidFill>
            <a:srgbClr val="e9fcff"/>
          </a:solidFill>
          <a:ln w="9360">
            <a:solidFill>
              <a:srgbClr val="f62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800000"/>
                </a:solidFill>
                <a:latin typeface="Arial"/>
              </a:rPr>
              <a:t>What is senior secondary school really for?</a:t>
            </a:r>
            <a:r>
              <a:rPr b="1" lang="en-NZ" sz="2400" spc="-1" strike="noStrike">
                <a:solidFill>
                  <a:srgbClr val="948d4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3280" y="4797360"/>
            <a:ext cx="38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(Diagram Bolstad and Gilbert, 2008)</a:t>
            </a:r>
            <a:endParaRPr b="0" lang="en-US" sz="1600" spc="-1" strike="noStrike">
              <a:solidFill>
                <a:srgbClr val="948d4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5516640"/>
            <a:ext cx="8569080" cy="825480"/>
          </a:xfrm>
          <a:prstGeom prst="rect">
            <a:avLst/>
          </a:prstGeom>
          <a:solidFill>
            <a:srgbClr val="e9fcff"/>
          </a:solidFill>
          <a:ln w="9360">
            <a:solidFill>
              <a:srgbClr val="f62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800000"/>
                </a:solidFill>
                <a:latin typeface="Arial"/>
              </a:rPr>
              <a:t>Who will help parents (and the wider public) develop new perspectives if we leave the agenda setting to others?</a:t>
            </a:r>
            <a:r>
              <a:rPr b="1" lang="en-NZ" sz="2400" spc="-1" strike="noStrike">
                <a:solidFill>
                  <a:srgbClr val="948d4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8136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The purposes and practices of partnership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How will you bring your parent community along with you? 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Four interrelated challenges on which to refl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135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4d4d4d"/>
                </a:solidFill>
                <a:latin typeface="Arial"/>
              </a:rPr>
              <a:t>The value/practice gap. How will you “walk the talk” to sustain your founding vision? What could help? What could hinder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4d4d4d"/>
                </a:solidFill>
                <a:latin typeface="Arial"/>
              </a:rPr>
              <a:t>Student voice: what does it mean? Why does it matter? What might it encompass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4d4d4d"/>
                </a:solidFill>
                <a:latin typeface="Arial"/>
              </a:rPr>
              <a:t>Engaging and motivating students: What is school really for?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4d4d4d"/>
                </a:solidFill>
                <a:latin typeface="Arial"/>
              </a:rPr>
              <a:t>The purposes and practices of partnership: how will you bring your parent community along with you?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56720" cy="4429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50920" y="5734080"/>
            <a:ext cx="8572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48d4a"/>
                </a:solidFill>
                <a:latin typeface="Arial"/>
              </a:rPr>
              <a:t>Factor analysis: Principals, α =.89;  Teachers, α =.92.</a:t>
            </a:r>
            <a:endParaRPr b="0" lang="en-US" sz="2000" spc="-1" strike="noStrike">
              <a:solidFill>
                <a:srgbClr val="948d4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48d4a"/>
                </a:solidFill>
                <a:latin typeface="Arial"/>
              </a:rPr>
              <a:t>Is this a deeply held value position?</a:t>
            </a:r>
            <a:r>
              <a:rPr b="0" lang="en-NZ" sz="2400" spc="-1" strike="noStrike">
                <a:solidFill>
                  <a:srgbClr val="948d4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4321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92360" y="5751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948d4a"/>
                </a:solidFill>
                <a:latin typeface="Arial"/>
              </a:rPr>
              <a:t>I am supportive of NCEA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01240" y="351000"/>
            <a:ext cx="62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48d4a"/>
                </a:solidFill>
                <a:latin typeface="Arial"/>
              </a:rPr>
              <a:t>An illustration of the partnership challenge….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5640" y="3789360"/>
            <a:ext cx="1440000" cy="719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250920" y="990720"/>
            <a:ext cx="8305200" cy="5867280"/>
            <a:chOff x="250920" y="990720"/>
            <a:chExt cx="8305200" cy="5867280"/>
          </a:xfrm>
        </p:grpSpPr>
        <p:sp>
          <p:nvSpPr>
            <p:cNvPr id="122" name=""/>
            <p:cNvSpPr/>
            <p:nvPr/>
          </p:nvSpPr>
          <p:spPr>
            <a:xfrm>
              <a:off x="250920" y="990720"/>
              <a:ext cx="8152920" cy="586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48d4a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41600" y="1714680"/>
              <a:ext cx="0" cy="4241520"/>
            </a:xfrm>
            <a:prstGeom prst="line">
              <a:avLst/>
            </a:prstGeom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48d4a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03040" y="3809880"/>
              <a:ext cx="4495680" cy="0"/>
            </a:xfrm>
            <a:prstGeom prst="line">
              <a:avLst/>
            </a:prstGeom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948d4a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98400" y="2438280"/>
              <a:ext cx="25142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d4a"/>
                  </a:solidFill>
                  <a:latin typeface="Arial"/>
                </a:rPr>
                <a:t>Focus on “getting” traditional content</a:t>
              </a:r>
              <a:endParaRPr b="0" lang="en-US" sz="1800" spc="-1" strike="noStrike">
                <a:solidFill>
                  <a:srgbClr val="948d4a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86560" y="2438280"/>
              <a:ext cx="28810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d4a"/>
                  </a:solidFill>
                  <a:latin typeface="Arial"/>
                </a:rPr>
                <a:t>Creating and using, </a:t>
              </a:r>
              <a:endParaRPr b="0" lang="en-US" sz="1800" spc="-1" strike="noStrike">
                <a:solidFill>
                  <a:srgbClr val="948d4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d4a"/>
                  </a:solidFill>
                  <a:latin typeface="Arial"/>
                </a:rPr>
                <a:t>not just getting knowledge </a:t>
              </a:r>
              <a:endParaRPr b="0" lang="en-US" sz="1800" spc="-1" strike="noStrike">
                <a:solidFill>
                  <a:srgbClr val="948d4a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5680" y="3581280"/>
              <a:ext cx="1633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Black"/>
                </a:rPr>
                <a:t>No risk</a:t>
              </a:r>
              <a:endParaRPr b="0" lang="en-US" sz="1800" spc="-1" strike="noStrike">
                <a:solidFill>
                  <a:srgbClr val="948d4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59200" y="3581280"/>
              <a:ext cx="1996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Black"/>
                </a:rPr>
                <a:t>High risk</a:t>
              </a:r>
              <a:endParaRPr b="0" lang="en-US" sz="1800" spc="-1" strike="noStrike">
                <a:solidFill>
                  <a:srgbClr val="948d4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84280" y="1278000"/>
              <a:ext cx="3909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Black"/>
                </a:rPr>
                <a:t>Learner Development</a:t>
              </a:r>
              <a:endParaRPr b="0" lang="en-US" sz="1800" spc="-1" strike="noStrike">
                <a:solidFill>
                  <a:srgbClr val="948d4a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07960" y="5919840"/>
              <a:ext cx="4636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Black"/>
                </a:rPr>
                <a:t>Learner Transformation</a:t>
              </a:r>
              <a:endParaRPr b="0" lang="en-US" sz="1800" spc="-1" strike="noStrike">
                <a:solidFill>
                  <a:srgbClr val="948d4a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67760" y="4572000"/>
              <a:ext cx="18770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d4a"/>
                  </a:solidFill>
                  <a:latin typeface="Arial"/>
                </a:rPr>
                <a:t>Learning generic</a:t>
              </a:r>
              <a:endParaRPr b="0" lang="en-US" sz="1800" spc="-1" strike="noStrike">
                <a:solidFill>
                  <a:srgbClr val="948d4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d4a"/>
                  </a:solidFill>
                  <a:latin typeface="Arial"/>
                </a:rPr>
                <a:t>skills</a:t>
              </a:r>
              <a:endParaRPr b="0" lang="en-US" sz="1800" spc="-1" strike="noStrike">
                <a:solidFill>
                  <a:srgbClr val="948d4a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33560" y="4572000"/>
              <a:ext cx="1789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d4a"/>
                  </a:solidFill>
                  <a:latin typeface="Arial"/>
                </a:rPr>
                <a:t>Learning to “be”</a:t>
              </a:r>
              <a:endParaRPr b="0" lang="en-US" sz="1800" spc="-1" strike="noStrike">
                <a:solidFill>
                  <a:srgbClr val="948d4a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0" y="22860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arning for an unknown future</a:t>
            </a:r>
            <a:endParaRPr b="0" lang="en-US" sz="36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88000" y="6021360"/>
            <a:ext cx="2232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Barnett, 2004</a:t>
            </a:r>
            <a:endParaRPr b="0" lang="en-US" sz="1800" spc="-1" strike="noStrike">
              <a:solidFill>
                <a:srgbClr val="948d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7724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ispositions for an unknown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338436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Carefulness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Thoughtfulness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Humility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Criticality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Receptiveness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Resilience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Courag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Stillness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13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The value/practice gap.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How will you “walk the talk” to sustain your founding vision?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What could help?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What could hinder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00800" cy="5029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566100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eachers say they value pedagogies that could support development of key competencies - but they are less likely to say they actually use them…</a:t>
            </a:r>
            <a:endParaRPr b="0" lang="en-US" sz="2000" spc="-1" strike="noStrike">
              <a:solidFill>
                <a:srgbClr val="948d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00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281160"/>
            <a:ext cx="7417080" cy="6357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1547280" y="333360"/>
            <a:ext cx="3024360" cy="5688000"/>
          </a:xfrm>
          <a:prstGeom prst="line">
            <a:avLst/>
          </a:prstGeom>
          <a:ln w="9360">
            <a:solidFill>
              <a:srgbClr val="948d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5516640"/>
            <a:ext cx="720720" cy="627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chievement-focused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0" y="1054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948d4a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02400" cy="4397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1280" y="602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877000"/>
            <a:ext cx="8893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48d4a"/>
                </a:solidFill>
                <a:latin typeface="Arial"/>
              </a:rPr>
              <a:t>Factor analysis: Teachers, α =.85</a:t>
            </a:r>
            <a:endParaRPr b="0" lang="en-US" sz="2000" spc="-1" strike="noStrike">
              <a:solidFill>
                <a:srgbClr val="948d4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948d4a"/>
                </a:solidFill>
                <a:latin typeface="Arial"/>
              </a:rPr>
              <a:t>Associated with high  morale, innovative programmes, NZC implementation</a:t>
            </a:r>
            <a:r>
              <a:rPr b="0" lang="en-NZ" sz="2400" spc="-1" strike="noStrike">
                <a:solidFill>
                  <a:srgbClr val="948d4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13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Student voic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What does it mean?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Why does it matter?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What might it encompass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71640" y="765000"/>
          <a:ext cx="7129080" cy="4894920"/>
        </p:xfrm>
        <a:graphic>
          <a:graphicData uri="http://schemas.openxmlformats.org/drawingml/2006/table">
            <a:tbl>
              <a:tblPr/>
              <a:tblGrid>
                <a:gridCol w="3414600"/>
                <a:gridCol w="1359720"/>
                <a:gridCol w="1208880"/>
                <a:gridCol w="1145880"/>
              </a:tblGrid>
              <a:tr h="15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Learning area cluster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2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Agree/strongly agree %</a:t>
                      </a: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2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Neutral/Not sure %</a:t>
                      </a: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2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Disagree/  strongly disagree %</a:t>
                      </a: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333399"/>
                          </a:solidFill>
                          <a:latin typeface="Arial Mäori"/>
                          <a:ea typeface="Times New Roman"/>
                        </a:rPr>
                        <a:t>Mathematics, sciences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333399"/>
                          </a:solidFill>
                          <a:latin typeface="Arial Mäori"/>
                          <a:ea typeface="Times New Roman"/>
                        </a:rPr>
                        <a:t>Technology, PE, health, transition, careers, special education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333399"/>
                          </a:solidFill>
                          <a:latin typeface="Arial Mäori"/>
                          <a:ea typeface="Times New Roman"/>
                        </a:rPr>
                        <a:t>Social sciences, arts, commerce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333399"/>
                          </a:solidFill>
                          <a:latin typeface="Arial Mäori"/>
                          <a:ea typeface="Times New Roman"/>
                        </a:rPr>
                        <a:t>English, languages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611280" y="189000"/>
            <a:ext cx="7797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ers’ responses to the statement:</a:t>
            </a:r>
            <a:r>
              <a:rPr b="0" lang="en-US" sz="2400" spc="-1" strike="noStrike">
                <a:solidFill>
                  <a:srgbClr val="948d4a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There is too much emphasis on student voice and similar ideas nowadays</a:t>
            </a:r>
            <a:endParaRPr b="0" lang="en-US" sz="20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49680" y="582444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tudent voice” appears to be a pivotal concept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21:40:11Z</dcterms:created>
  <dc:creator>Rose Hipkins</dc:creator>
  <dc:description/>
  <dc:language>en-US</dc:language>
  <cp:lastModifiedBy>Rose Hipkins</cp:lastModifiedBy>
  <dcterms:modified xsi:type="dcterms:W3CDTF">2010-11-26T02:25:46Z</dcterms:modified>
  <cp:revision>83</cp:revision>
  <dc:subject/>
  <dc:title>Should key competencies be assessed? Lessons from the New Zealand experience </dc:title>
</cp:coreProperties>
</file>